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446-2C16-422B-BC77-4BDFA094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FA2-4ADD-4B3A-855A-93041600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06F-9EB0-4279-B8DC-D1231A6C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280-29D9-4558-BD65-A58E8B8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20A-98EE-4DDE-9E88-1B109BF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725-E42F-46F7-B149-8ACE9B0C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AF2-17A5-4C6F-8D8E-D1FAA37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3EF-EDCA-440C-B057-186750BE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793-59F4-4A2B-865D-C667D9D6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D40-7E87-4E99-AF77-33AFEC3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62D-9864-43EB-B5F8-6C5144F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B97-61A8-4D03-9E30-12CC0F8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3D1-456F-4B0F-947B-D3A98D46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19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ication: Introduc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ing</a:t>
            </a:r>
            <a:endParaRPr b="0" lang="en-US" sz="32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Other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negative number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cede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phabe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the same text a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sitive number if follow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phabe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comparison and 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“higher” alphabetical order (a is higher than b) is the string with the leas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&lt; b and b &lt; c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2360" y="3110040"/>
            <a:ext cx="6297480" cy="150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5440" y="1447920"/>
            <a:ext cx="58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prototypes that use pass-by-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95320" y="2286000"/>
            <a:ext cx="4191480" cy="1523880"/>
            <a:chOff x="4495320" y="2286000"/>
            <a:chExt cx="4191480" cy="1523880"/>
          </a:xfrm>
        </p:grpSpPr>
        <p:sp>
          <p:nvSpPr>
            <p:cNvPr id="86" name=""/>
            <p:cNvSpPr/>
            <p:nvPr/>
          </p:nvSpPr>
          <p:spPr>
            <a:xfrm>
              <a:off x="6095880" y="22860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functions that p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s by refer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495320" y="2590920"/>
              <a:ext cx="1600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55840" y="1828800"/>
            <a:ext cx="6230880" cy="341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3280" y="1447920"/>
            <a:ext cx="57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 containing the price of the auction i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160" y="3562200"/>
            <a:ext cx="3429360" cy="337320"/>
            <a:chOff x="5105160" y="3562200"/>
            <a:chExt cx="3429360" cy="337320"/>
          </a:xfrm>
        </p:grpSpPr>
        <p:sp>
          <p:nvSpPr>
            <p:cNvPr id="92" name=""/>
            <p:cNvSpPr/>
            <p:nvPr/>
          </p:nvSpPr>
          <p:spPr>
            <a:xfrm>
              <a:off x="6248520" y="3562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05160" y="3714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string literals in an assignment statement are concat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50800" y="2286000"/>
            <a:ext cx="624060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840" y="1447920"/>
            <a:ext cx="45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95320" y="1638360"/>
            <a:ext cx="4267800" cy="1447920"/>
            <a:chOff x="4495320" y="1638360"/>
            <a:chExt cx="4267800" cy="1447920"/>
          </a:xfrm>
        </p:grpSpPr>
        <p:sp>
          <p:nvSpPr>
            <p:cNvPr id="99" name=""/>
            <p:cNvSpPr/>
            <p:nvPr/>
          </p:nvSpPr>
          <p:spPr>
            <a:xfrm>
              <a:off x="5791320" y="163836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n item name (stor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495320" y="2476800"/>
              <a:ext cx="4038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114800" y="3695400"/>
            <a:ext cx="3200400" cy="657360"/>
            <a:chOff x="4114800" y="3695400"/>
            <a:chExt cx="3200400" cy="657360"/>
          </a:xfrm>
        </p:grpSpPr>
        <p:sp>
          <p:nvSpPr>
            <p:cNvPr id="102" name=""/>
            <p:cNvSpPr/>
            <p:nvPr/>
          </p:nvSpPr>
          <p:spPr>
            <a:xfrm>
              <a:off x="4572000" y="3772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the empty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114800" y="3695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ing it contains the empty string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5840" y="2309760"/>
            <a:ext cx="6230880" cy="310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0400" y="1447920"/>
            <a:ext cx="57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price of the i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95320" y="1828800"/>
            <a:ext cx="2667600" cy="1295280"/>
            <a:chOff x="4495320" y="1828800"/>
            <a:chExt cx="2667600" cy="1295280"/>
          </a:xfrm>
        </p:grpSpPr>
        <p:sp>
          <p:nvSpPr>
            <p:cNvPr id="109" name=""/>
            <p:cNvSpPr/>
            <p:nvPr/>
          </p:nvSpPr>
          <p:spPr>
            <a:xfrm>
              <a:off x="45720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conversion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95320" y="2438280"/>
              <a:ext cx="1752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57440" y="2666880"/>
            <a:ext cx="3505680" cy="1067040"/>
            <a:chOff x="5257440" y="2666880"/>
            <a:chExt cx="3505680" cy="1067040"/>
          </a:xfrm>
        </p:grpSpPr>
        <p:sp>
          <p:nvSpPr>
            <p:cNvPr id="112" name=""/>
            <p:cNvSpPr/>
            <p:nvPr/>
          </p:nvSpPr>
          <p:spPr>
            <a:xfrm>
              <a:off x="6019920" y="2666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ing for the price and calculating the converted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257440" y="327672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33760" y="4114800"/>
            <a:ext cx="3505320" cy="337320"/>
            <a:chOff x="5333760" y="4114800"/>
            <a:chExt cx="3505320" cy="337320"/>
          </a:xfrm>
        </p:grpSpPr>
        <p:sp>
          <p:nvSpPr>
            <p:cNvPr id="115" name=""/>
            <p:cNvSpPr/>
            <p:nvPr/>
          </p:nvSpPr>
          <p:spPr>
            <a:xfrm>
              <a:off x="5943600" y="41148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price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33760" y="4267080"/>
              <a:ext cx="609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733560" y="5029200"/>
            <a:ext cx="3200760" cy="1037880"/>
            <a:chOff x="3733560" y="5029200"/>
            <a:chExt cx="3200760" cy="1037880"/>
          </a:xfrm>
        </p:grpSpPr>
        <p:sp>
          <p:nvSpPr>
            <p:cNvPr id="118" name=""/>
            <p:cNvSpPr/>
            <p:nvPr/>
          </p:nvSpPr>
          <p:spPr>
            <a:xfrm>
              <a:off x="4114800" y="5486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to select the next item for which to 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3733560" y="502920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index of the first occurrence of the argu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 argu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accept a second argument specifying the index at which the function should begin loo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50800" y="303840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840" y="1447920"/>
            <a:ext cx="46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560" y="4343400"/>
            <a:ext cx="3353040" cy="1114200"/>
            <a:chOff x="4876560" y="4343400"/>
            <a:chExt cx="3353040" cy="1114200"/>
          </a:xfrm>
        </p:grpSpPr>
        <p:sp>
          <p:nvSpPr>
            <p:cNvPr id="126" name=""/>
            <p:cNvSpPr/>
            <p:nvPr/>
          </p:nvSpPr>
          <p:spPr>
            <a:xfrm>
              <a:off x="5410080" y="48769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876560" y="43434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50800" y="3200400"/>
            <a:ext cx="6240600" cy="1324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1480" y="1447920"/>
            <a:ext cx="45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4191120"/>
            <a:ext cx="2971800" cy="1037880"/>
            <a:chOff x="4724280" y="4191120"/>
            <a:chExt cx="2971800" cy="1037880"/>
          </a:xfrm>
        </p:grpSpPr>
        <p:sp>
          <p:nvSpPr>
            <p:cNvPr id="132" name=""/>
            <p:cNvSpPr/>
            <p:nvPr/>
          </p:nvSpPr>
          <p:spPr>
            <a:xfrm>
              <a:off x="5334120" y="4648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ng the beginning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724280" y="41911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50800" y="3200400"/>
            <a:ext cx="6240600" cy="1324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3280" y="1447920"/>
            <a:ext cx="48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end of the item’s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1640" y="4114800"/>
            <a:ext cx="3886560" cy="870840"/>
            <a:chOff x="4571640" y="4114800"/>
            <a:chExt cx="3886560" cy="870840"/>
          </a:xfrm>
        </p:grpSpPr>
        <p:sp>
          <p:nvSpPr>
            <p:cNvPr id="138" name=""/>
            <p:cNvSpPr/>
            <p:nvPr/>
          </p:nvSpPr>
          <p:spPr>
            <a:xfrm>
              <a:off x="4648320" y="4648320"/>
              <a:ext cx="3809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ng the end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571640" y="41148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manipul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roperties and function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substrings with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 substring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 substrings with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numbers to its corresponding numeric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f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finds the first occurrence of a substring searching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returns a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argument specifies the starting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argument specifies the length of the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_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returns a character array containing the text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converts a character array to a floating-poin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 character array does not represent a valid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declared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50800" y="2971800"/>
            <a:ext cx="6240600" cy="211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1840" y="1447920"/>
            <a:ext cx="41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the desired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867280" y="2224080"/>
            <a:ext cx="2971800" cy="1523520"/>
            <a:chOff x="5867280" y="2224080"/>
            <a:chExt cx="2971800" cy="1523520"/>
          </a:xfrm>
        </p:grpSpPr>
        <p:sp>
          <p:nvSpPr>
            <p:cNvPr id="150" name=""/>
            <p:cNvSpPr/>
            <p:nvPr/>
          </p:nvSpPr>
          <p:spPr>
            <a:xfrm>
              <a:off x="5867280" y="22240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bstring, conver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storing i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019920" y="329076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50800" y="3124080"/>
            <a:ext cx="6240600" cy="14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13640" y="1447920"/>
            <a:ext cx="51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ing prices from euros to doll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4114440"/>
            <a:ext cx="2819520" cy="1510200"/>
            <a:chOff x="685800" y="4114440"/>
            <a:chExt cx="2819520" cy="1510200"/>
          </a:xfrm>
        </p:grpSpPr>
        <p:sp>
          <p:nvSpPr>
            <p:cNvPr id="156" name=""/>
            <p:cNvSpPr/>
            <p:nvPr/>
          </p:nvSpPr>
          <p:spPr>
            <a:xfrm>
              <a:off x="685800" y="48006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ing the price from euros to dollars using the conversion rate entered by the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743200" y="41144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1480" y="144792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ther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2560" y="136692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6692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95120" y="2666880"/>
            <a:ext cx="4800960" cy="580680"/>
            <a:chOff x="2895120" y="2666880"/>
            <a:chExt cx="4800960" cy="580680"/>
          </a:xfrm>
        </p:grpSpPr>
        <p:sp>
          <p:nvSpPr>
            <p:cNvPr id="168" name=""/>
            <p:cNvSpPr/>
            <p:nvPr/>
          </p:nvSpPr>
          <p:spPr>
            <a:xfrm>
              <a:off x="4952880" y="2666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functions that 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ference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95120" y="2742840"/>
              <a:ext cx="2057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114800" y="29718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228600"/>
            <a:ext cx="3505320" cy="337320"/>
            <a:chOff x="4114800" y="228600"/>
            <a:chExt cx="3505320" cy="337320"/>
          </a:xfrm>
        </p:grpSpPr>
        <p:sp>
          <p:nvSpPr>
            <p:cNvPr id="175" name=""/>
            <p:cNvSpPr/>
            <p:nvPr/>
          </p:nvSpPr>
          <p:spPr>
            <a:xfrm>
              <a:off x="5486400" y="2286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114800" y="304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19520" y="2590920"/>
            <a:ext cx="5333760" cy="824040"/>
            <a:chOff x="2819520" y="2590920"/>
            <a:chExt cx="5333760" cy="824040"/>
          </a:xfrm>
        </p:grpSpPr>
        <p:sp>
          <p:nvSpPr>
            <p:cNvPr id="178" name=""/>
            <p:cNvSpPr/>
            <p:nvPr/>
          </p:nvSpPr>
          <p:spPr>
            <a:xfrm>
              <a:off x="548640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 item name and input it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19520" y="3276360"/>
              <a:ext cx="2666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8120" y="3657600"/>
            <a:ext cx="5867280" cy="580680"/>
            <a:chOff x="3048120" y="3657600"/>
            <a:chExt cx="5867280" cy="580680"/>
          </a:xfrm>
        </p:grpSpPr>
        <p:sp>
          <p:nvSpPr>
            <p:cNvPr id="181" name=""/>
            <p:cNvSpPr/>
            <p:nvPr/>
          </p:nvSpPr>
          <p:spPr>
            <a:xfrm>
              <a:off x="5715000" y="3657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the empty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048120" y="3962160"/>
              <a:ext cx="2666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95120" y="4419720"/>
            <a:ext cx="5868000" cy="580680"/>
            <a:chOff x="2895120" y="4419720"/>
            <a:chExt cx="5868000" cy="580680"/>
          </a:xfrm>
        </p:grpSpPr>
        <p:sp>
          <p:nvSpPr>
            <p:cNvPr id="184" name=""/>
            <p:cNvSpPr/>
            <p:nvPr/>
          </p:nvSpPr>
          <p:spPr>
            <a:xfrm>
              <a:off x="5867280" y="44197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store the conversion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895120" y="4648320"/>
              <a:ext cx="297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80920" y="5334120"/>
            <a:ext cx="4725000" cy="580680"/>
            <a:chOff x="3580920" y="5334120"/>
            <a:chExt cx="4725000" cy="580680"/>
          </a:xfrm>
        </p:grpSpPr>
        <p:sp>
          <p:nvSpPr>
            <p:cNvPr id="187" name=""/>
            <p:cNvSpPr/>
            <p:nvPr/>
          </p:nvSpPr>
          <p:spPr>
            <a:xfrm>
              <a:off x="571500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price and calculate the converted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580920" y="5334120"/>
              <a:ext cx="2133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5840" y="457200"/>
            <a:ext cx="4191480" cy="337320"/>
            <a:chOff x="3885840" y="457200"/>
            <a:chExt cx="4191480" cy="337320"/>
          </a:xfrm>
        </p:grpSpPr>
        <p:sp>
          <p:nvSpPr>
            <p:cNvPr id="193" name=""/>
            <p:cNvSpPr/>
            <p:nvPr/>
          </p:nvSpPr>
          <p:spPr>
            <a:xfrm>
              <a:off x="5486400" y="4572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price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885840" y="4572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8120" y="1371600"/>
            <a:ext cx="5715000" cy="1418760"/>
            <a:chOff x="3048120" y="1371600"/>
            <a:chExt cx="5715000" cy="1418760"/>
          </a:xfrm>
        </p:grpSpPr>
        <p:sp>
          <p:nvSpPr>
            <p:cNvPr id="196" name=""/>
            <p:cNvSpPr/>
            <p:nvPr/>
          </p:nvSpPr>
          <p:spPr>
            <a:xfrm>
              <a:off x="5791320" y="22096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to select the next item for which to 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3048120" y="1371600"/>
              <a:ext cx="3657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038480" y="228600"/>
            <a:ext cx="3962520" cy="1600200"/>
            <a:chOff x="4038480" y="228600"/>
            <a:chExt cx="3962520" cy="1600200"/>
          </a:xfrm>
        </p:grpSpPr>
        <p:sp>
          <p:nvSpPr>
            <p:cNvPr id="208" name=""/>
            <p:cNvSpPr/>
            <p:nvPr/>
          </p:nvSpPr>
          <p:spPr>
            <a:xfrm>
              <a:off x="4876920" y="2286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038480" y="83808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724280" y="1523880"/>
            <a:ext cx="3810240" cy="609840"/>
            <a:chOff x="4724280" y="1523880"/>
            <a:chExt cx="3810240" cy="609840"/>
          </a:xfrm>
        </p:grpSpPr>
        <p:sp>
          <p:nvSpPr>
            <p:cNvPr id="211" name=""/>
            <p:cNvSpPr/>
            <p:nvPr/>
          </p:nvSpPr>
          <p:spPr>
            <a:xfrm>
              <a:off x="6095880" y="15238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e the beginning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4280" y="16765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8840" y="2438280"/>
            <a:ext cx="3657960" cy="580680"/>
            <a:chOff x="5028840" y="2438280"/>
            <a:chExt cx="3657960" cy="580680"/>
          </a:xfrm>
        </p:grpSpPr>
        <p:sp>
          <p:nvSpPr>
            <p:cNvPr id="214" name=""/>
            <p:cNvSpPr/>
            <p:nvPr/>
          </p:nvSpPr>
          <p:spPr>
            <a:xfrm>
              <a:off x="6095880" y="24382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e the end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028840" y="25142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114440" y="3429000"/>
            <a:ext cx="4800960" cy="824040"/>
            <a:chOff x="4114440" y="3429000"/>
            <a:chExt cx="4800960" cy="824040"/>
          </a:xfrm>
        </p:grpSpPr>
        <p:sp>
          <p:nvSpPr>
            <p:cNvPr id="217" name=""/>
            <p:cNvSpPr/>
            <p:nvPr/>
          </p:nvSpPr>
          <p:spPr>
            <a:xfrm>
              <a:off x="5715000" y="3429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bstring, conve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store i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181480" y="35809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114440" y="380988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00400" y="4419720"/>
            <a:ext cx="4419720" cy="1067400"/>
            <a:chOff x="3200400" y="4419720"/>
            <a:chExt cx="4419720" cy="1067400"/>
          </a:xfrm>
        </p:grpSpPr>
        <p:sp>
          <p:nvSpPr>
            <p:cNvPr id="221" name=""/>
            <p:cNvSpPr/>
            <p:nvPr/>
          </p:nvSpPr>
          <p:spPr>
            <a:xfrm>
              <a:off x="4648320" y="4419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 the price from euros to dollars using the conversion rate entered by the user and return the dollar price to the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00400" y="4952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866920" y="4190760"/>
            <a:ext cx="2439000" cy="1480680"/>
            <a:chOff x="5866920" y="4190760"/>
            <a:chExt cx="2439000" cy="1480680"/>
          </a:xfrm>
        </p:grpSpPr>
        <p:sp>
          <p:nvSpPr>
            <p:cNvPr id="53" name=""/>
            <p:cNvSpPr/>
            <p:nvPr/>
          </p:nvSpPr>
          <p:spPr>
            <a:xfrm>
              <a:off x="5867280" y="53341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TML source is display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866920" y="419076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67120" y="2681280"/>
            <a:ext cx="320976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920" y="144792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HTML page in Internet Explo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4000" y="1447920"/>
            <a:ext cx="44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an item from the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400" y="144792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ing for the item’s price and displaying the price in doll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8120" y="4800600"/>
            <a:ext cx="2361960" cy="961560"/>
            <a:chOff x="3048120" y="4800600"/>
            <a:chExt cx="2361960" cy="961560"/>
          </a:xfrm>
        </p:grpSpPr>
        <p:sp>
          <p:nvSpPr>
            <p:cNvPr id="65" name=""/>
            <p:cNvSpPr/>
            <p:nvPr/>
          </p:nvSpPr>
          <p:spPr>
            <a:xfrm>
              <a:off x="3429000" y="5181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racted price (converted to 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048120" y="48006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62520" y="1905120"/>
            <a:ext cx="2666880" cy="1523880"/>
            <a:chOff x="3962520" y="1905120"/>
            <a:chExt cx="2666880" cy="1523880"/>
          </a:xfrm>
        </p:grpSpPr>
        <p:sp>
          <p:nvSpPr>
            <p:cNvPr id="68" name=""/>
            <p:cNvSpPr/>
            <p:nvPr/>
          </p:nvSpPr>
          <p:spPr>
            <a:xfrm>
              <a:off x="3962520" y="1905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 located in HTML string (specified in eur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334120" y="24382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haracters in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subscript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you would with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ang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rang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subscrip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with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124080" cy="48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4343400" cy="38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3720" y="4724280"/>
            <a:ext cx="82216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9:59:56Z</dcterms:created>
  <dc:creator>Jeffrey Peng</dc:creator>
  <dc:description/>
  <dc:language>en-US</dc:language>
  <cp:lastModifiedBy>Pearson Education</cp:lastModifiedBy>
  <dcterms:modified xsi:type="dcterms:W3CDTF">2004-10-11T14:13:01Z</dcterms:modified>
  <cp:revision>78</cp:revision>
  <dc:subject/>
  <dc:title>Tutorial 19 – Screen Scraping Application: Introducing string Processing</dc:title>
</cp:coreProperties>
</file>